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88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976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7600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88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976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88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976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7600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88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3976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360" y="2491920"/>
            <a:ext cx="7162560" cy="11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907920"/>
            <a:ext cx="765792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ословно хранене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582302"/>
                </a:solidFill>
                <a:latin typeface="Arial"/>
              </a:rPr>
              <a:t>Хранителната пирамида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8317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рите групи храни са известни като </a:t>
            </a:r>
            <a:r>
              <a:rPr b="0" i="1" lang="bg-BG" sz="2400" spc="-1" strike="noStrike" u="sng">
                <a:solidFill>
                  <a:srgbClr val="000000"/>
                </a:solidFill>
                <a:uFillTx/>
                <a:latin typeface="Arial"/>
              </a:rPr>
              <a:t>"хранителна пирамида". 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Най-долната част на пирамидата е най-голяма и съдържа "полезните" и здравословни храни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, от които трябва да се похапва най-много. </a:t>
            </a:r>
            <a:br>
              <a:rPr sz="2400"/>
            </a:b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 Средната част на пирамидата съдържа храни, които могат да се консумират понякога, но не твърде често.</a:t>
            </a:r>
            <a:br>
              <a:rPr sz="2400"/>
            </a:b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 Най-горната част на пирамидата е най-малка и съдържа храните, които най-рядко трябва да се консумират.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Не забравяйте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Здравословните храни съдържат витамини, минерали и фибри(растителни влакна). 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Нездравословните храни съдържат много мазнини и захари. 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Старайте се да консумирате разнообразна здравословна храна.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Можете да си похапвате шоколадови лакомства, торта и чипс но по-рядко и не само това.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ХРАНЕТЕ СЕ ЗДРАВОСЛОВНО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И ЩЕ СЕ РАДВАТЕ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НА ДОБРО ЗДРАВЕ!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20072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27236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3600" spc="-1" strike="noStrike">
                <a:solidFill>
                  <a:srgbClr val="ff3300"/>
                </a:solidFill>
                <a:latin typeface="Arial"/>
              </a:rPr>
              <a:t>Здравословното хранене</a:t>
            </a:r>
            <a:r>
              <a:rPr b="0" lang="bg-BG" sz="3600" spc="-1" strike="noStrike">
                <a:solidFill>
                  <a:srgbClr val="582302"/>
                </a:solidFill>
                <a:latin typeface="Arial"/>
              </a:rPr>
              <a:t> най-общо означава да се доставят на организма необходимите количества хранителни вещества 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918800" y="1052280"/>
            <a:ext cx="71168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 u="sng">
                <a:solidFill>
                  <a:srgbClr val="4d4d4d"/>
                </a:solidFill>
                <a:uFillTx/>
                <a:latin typeface="Arial"/>
              </a:rPr>
              <a:t>Нездравословни храни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пък са тези, които съдържат много мазнини и захари.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Здравословните храни са с богато съдържание на витамини и минерали и спомагат за растежа на организма - затова децата трябва да консумират повече здравословни храни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Храната може да бъде разделена на три групи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Група 1: Консумирайте много от тази група храни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Плодове и зеленчуци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Хляб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Житни и зърнени храни (като ориз и паста - спагети и др.)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Грахови и бобови храни.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Следва да се приема много и разнообрана храна от тази група; но не от един вид само, например плодове, а от всички посочени видове, за да може да се осигури на организма огромното разнообразие и богатство от витамини и минерали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3600" spc="-1" strike="noStrike">
                <a:solidFill>
                  <a:srgbClr val="4d4d4d"/>
                </a:solidFill>
                <a:latin typeface="Arial"/>
              </a:rPr>
              <a:t>Растителните храни съдържат много полезни и здравословни  малки частици, които предотвратяват появата на много болести. Затова е много важно да се храните с разнообразна растителна храна. 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Група 2: Консумирайте понякога от тези храни, но не и твърде често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Тези храни също са полезни за организма и здравословни, но трябва да се консумират в по-малки количества, отколкото храните в Група 1: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Млечни продукти като прясно и кисело мляко, сирене,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Пилешко месо (без кожата),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Риба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Ядки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399600"/>
            <a:ext cx="8640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Група 3: Консумирайте много рядко тези храни 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Тези храни включват много мазнини и захари, но не и витамини и минерали  - затова трябва да се ограничава тяхната консумация. Повечето хора могат да си позволят да си похапват до две на ден от "забранените" храни без да имат проблеми, но в никакъв случай не трябва да се злоупотребява с тях и да се яде само такава храна!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4d4d4d"/>
                </a:solidFill>
                <a:uFillTx/>
                <a:latin typeface="Arial"/>
              </a:rPr>
              <a:t>Тези храни включват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Бисквит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Шоколадови десерт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Чипс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Сладолед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Близалки, дъвчащи бонбон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Торти и пасти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9:49:46Z</dcterms:created>
  <dc:creator>2t</dc:creator>
  <dc:description/>
  <dc:language>en-US</dc:language>
  <cp:lastModifiedBy>Home</cp:lastModifiedBy>
  <dcterms:modified xsi:type="dcterms:W3CDTF">2013-04-20T13:54:10Z</dcterms:modified>
  <cp:revision>3</cp:revision>
  <dc:subject/>
  <dc:title>Slide 1</dc:title>
</cp:coreProperties>
</file>